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move the slide</a:t>
            </a:r>
            <a:endParaRPr b="0" lang="en-US" sz="4200" spc="-1" strike="noStrike">
              <a:solidFill>
                <a:srgbClr val="d3bdbd"/>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47DF-F72D-4C4D-B99D-23CB5BB40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6726-BE2B-49E4-8456-34940A1BBF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17C3-023D-4DB9-AD00-C0E2C21A50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7629-455A-41A9-98DE-98EE78F0D0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AEDB-C1A7-4D47-B309-1D54C6AC4D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66BF-F9D3-4A28-9189-BC1718E71A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3493-EE3E-470B-A10F-849DB6E3C7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E39A-D9D0-46FC-A536-440BADD26B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20737-0309-4B61-A431-6CE5C23D9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7"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A2EDE-8A2A-4D8D-8CCC-B0584A22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0"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27240-52BC-4110-9CC7-8C06C0FA5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5"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D0769-1134-453C-82FF-1B7D90D21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519BA-8A6B-456F-82DE-301B61523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7"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F77A6-9B47-4E98-8F52-2B0561586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ACCFD-75AE-4F40-B79D-4733B93C3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1"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24147-4D63-48AD-991F-5E2A162C4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E7606-060D-4577-BD2B-88AF43C21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4CFEB-76D4-4576-9D04-E121B8285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6"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E4486-E930-4B6A-AB60-9FA0EE416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78747-F8DF-4BC9-9188-99C46691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99044-EC9D-43FA-ACAB-F3931EEAC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4"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BED14-4738-4EF0-A453-09AA20616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8"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7B840-E140-4CFC-848A-54FB846E5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1"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AFBFD-C763-483D-8B85-FF1EFEE0B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6"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61769-7E3C-4D54-B599-6F58D19FA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0236A-F9A1-48DD-A276-DE25AA1E9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CD3E7-F643-4E3A-AFBD-FF392861B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E7244-240E-46ED-80FD-E75317AEF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46568-3FCC-43CE-B219-8BCA2B690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5"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6BD2-A917-4A03-9F7D-B3F09B57C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9"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FE1FD-5692-4054-9B3E-F8098EC9D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3"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37520-82C3-4ADE-9514-6F37EBAFE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1"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4767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07B5-D5F5-4FCD-B9ED-9DEC47FA6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42"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838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50496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59C2-42A2-4641-A90F-682F1D6431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1981080"/>
            <a:ext cx="655344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Writing Mini-Lesson</a:t>
            </a:r>
            <a:r>
              <a:rPr b="0" lang="en-US" sz="4000" spc="-1" strike="noStrike">
                <a:solidFill>
                  <a:srgbClr val="d3bdbd"/>
                </a:solidFill>
                <a:latin typeface="Arial"/>
              </a:rPr>
              <a:t>	</a:t>
            </a:r>
            <a:endParaRPr b="0" lang="en-US" sz="4000" spc="-1" strike="noStrike">
              <a:solidFill>
                <a:srgbClr val="d3bdbd"/>
              </a:solidFill>
              <a:latin typeface="Arial"/>
            </a:endParaRPr>
          </a:p>
        </p:txBody>
      </p:sp>
      <p:sp>
        <p:nvSpPr>
          <p:cNvPr id="90" name="PlaceHolder 2"/>
          <p:cNvSpPr>
            <a:spLocks noGrp="1"/>
          </p:cNvSpPr>
          <p:nvPr>
            <p:ph type="subTitle"/>
          </p:nvPr>
        </p:nvSpPr>
        <p:spPr>
          <a:xfrm>
            <a:off x="838080" y="3048120"/>
            <a:ext cx="6553440" cy="1218960"/>
          </a:xfrm>
          <a:prstGeom prst="rect">
            <a:avLst/>
          </a:prstGeom>
          <a:noFill/>
          <a:ln w="0">
            <a:noFill/>
          </a:ln>
        </p:spPr>
        <p:txBody>
          <a:bodyPr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Don’t T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92"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uld hardly wait until my mom came home from the hospital with the new baby. The baby was </a:t>
            </a:r>
            <a:r>
              <a:rPr b="0" lang="en-US" sz="3200" spc="-1" strike="noStrike" u="sng">
                <a:solidFill>
                  <a:srgbClr val="ffffff"/>
                </a:solidFill>
                <a:uFillTx/>
                <a:latin typeface="Arial"/>
              </a:rPr>
              <a:t>cut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94"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issa has big blue eyes, straight black hair, and soft skin. She has red cheeks, too. Her fingers and toes are tiny, and her clothes aren’t much bigger than an American Do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96"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shut your eyes while I read this sentence to yo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vis was angry when she heard what the umpire said.</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at look li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98"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shut your eyes again and listen to this sentence:</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king her head back and forth, Mavis pounded home plate with her fist after the umpire shouted, “You’re out!”</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what picture do you have in your h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100"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egies writers use to SHOW what is happening include:</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ing the character’s actions rather than just saying how he or she feel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ction verb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similes and metaphor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dialogue.</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ling to some of the five senses to paint a picture of what is happening.</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102"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irl cried a lot.</a:t>
            </a:r>
            <a:endParaRPr b="0" lang="en-US" sz="28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picture that this sentence paints in your mind.</a:t>
            </a:r>
            <a:endParaRPr b="0" lang="en-US" sz="24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rds could we use instead of girl? What are more specific words that mean cry?</a:t>
            </a:r>
            <a:endParaRPr b="0" lang="en-US" sz="24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else can we say a lo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The teenager threw herself on her bed and sobbed into her pillow until she fell asleep.</a:t>
            </a:r>
            <a:endParaRPr b="0" lang="en-US" sz="2400" spc="-1" strike="noStrike">
              <a:solidFill>
                <a:srgbClr val="ffffff"/>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W YOU TRY 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9:32:42Z</dcterms:created>
  <dc:creator>SMA</dc:creator>
  <dc:description/>
  <dc:language>en-US</dc:language>
  <cp:lastModifiedBy>ECC</cp:lastModifiedBy>
  <dcterms:modified xsi:type="dcterms:W3CDTF">2011-07-23T14:41:08Z</dcterms:modified>
  <cp:revision>4</cp:revision>
  <dc:subject/>
  <dc:title>PowerPoint Presentation</dc:title>
</cp:coreProperties>
</file>